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1C9F-6EE3-4EBE-9E14-64E34174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3B2-3AC7-454F-8EA9-69ABEF5D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1E5-0648-40CD-8592-D2424AE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BFB-3F6D-4A74-BCBC-3FCBBE7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DA0-E5E4-4FF0-A45F-4D791C09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E05-7985-40E1-9D27-AB72FD39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1F6-C0E9-4F71-8FAC-67DD958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EB0-6BFB-4A36-A3AC-A6CFF76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F0B-BC7B-46B2-9C19-0963B5E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CFF-BADA-4F93-89E1-5554B0AC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E08-2F1E-4AF7-B937-5F32B7D1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680-B812-4771-BD61-E12596A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3E9-74DE-4537-A23D-AFA4F10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699-9599-451C-B377-9D9F478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005-ABE6-44D7-AB81-639C778E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bigelow.org/edhab/fitting_algae.html" TargetMode="Externa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br>
              <a:rPr sz="5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GreenCircle"/>
          <p:cNvPicPr/>
          <p:nvPr/>
        </p:nvPicPr>
        <p:blipFill>
          <a:blip r:embed="rId1"/>
          <a:stretch/>
        </p:blipFill>
        <p:spPr>
          <a:xfrm>
            <a:off x="3581280" y="3733920"/>
            <a:ext cx="2028960" cy="1847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7640" y="6400800"/>
            <a:ext cx="40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cc"/>
                </a:solidFill>
                <a:latin typeface="Arial"/>
              </a:rPr>
              <a:t>http://educ.queensu.ca/~fmc/august2004/pages/dinobreath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does the way matter flows through an ecosystem differ from the way that energy flow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95920" y="1981080"/>
            <a:ext cx="836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nergy is passed in one-way direction thr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he biotic (living organisms) in an ec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tter cycles within and between biotic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biotic parts of an ec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1840" y="4724280"/>
            <a:ext cx="871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biogeochemical cycle does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olve a stage where the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ters the atmosp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86728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in which bacteria convert nit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nitrogen gas and release it in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821320" y="1828800"/>
            <a:ext cx="32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32560" y="3657600"/>
            <a:ext cx="867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ent which is scare or cycles s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controls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miting nutr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a decompo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280" y="1295280"/>
            <a:ext cx="8763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cteria or fung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break down organic material and  absorb the nutr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9400" y="3635280"/>
            <a:ext cx="801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group of organisms is 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 in the first trophic leve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ry food chain or web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71600" y="5867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utotrophs or 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is only about 10% of the energy in an organism transferred in a food chai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18124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ome is used by organism for life processes such as movement, transport, metabolism, growth, reproduction, and rest is lost as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7320" y="4419720"/>
            <a:ext cx="87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ample of an ABIOTIC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5800" y="51181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mate, temperature, precipitation, wind, soil type, water availability, sun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a RE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3800" y="1676520"/>
            <a:ext cx="78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Food, water, shelter, territory,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14240" y="3635280"/>
            <a:ext cx="798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drives the wind and currents tha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throughout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362320" y="4800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Unequal heating of earth’s su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52280"/>
            <a:ext cx="93726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obtains energy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ting only pla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eats both plant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breaks down org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ter (Ex: Fungi &amp; bacteria)            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feed on dead plan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and animal remains (EX:Crabs &amp; worms)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eats only m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00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COMP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175440" y="12193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250680" y="22860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M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176880" y="44197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TRIT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405840" y="52578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a food web different from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5280" y="1724040"/>
            <a:ext cx="88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s are made up of many food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n herb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09480" y="56386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ebras  are herb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zebra"/>
          <p:cNvPicPr/>
          <p:nvPr/>
        </p:nvPicPr>
        <p:blipFill>
          <a:blip r:embed="rId1"/>
          <a:stretch/>
        </p:blipFill>
        <p:spPr>
          <a:xfrm>
            <a:off x="68580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ungus"/>
          <p:cNvPicPr/>
          <p:nvPr/>
        </p:nvPicPr>
        <p:blipFill>
          <a:blip r:embed="rId2"/>
          <a:stretch/>
        </p:blipFill>
        <p:spPr>
          <a:xfrm>
            <a:off x="5105520" y="41148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punkbaby"/>
          <p:cNvPicPr/>
          <p:nvPr/>
        </p:nvPicPr>
        <p:blipFill>
          <a:blip r:embed="rId4"/>
          <a:stretch/>
        </p:blipFill>
        <p:spPr>
          <a:xfrm>
            <a:off x="7315200" y="3809880"/>
            <a:ext cx="1281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 the climate zones in order from coldest to warm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22400" y="2438280"/>
            <a:ext cx="49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lar, Temperate,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2960" y="4114800"/>
            <a:ext cx="77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two ways water returns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mosphere in the water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380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vaporation and tra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 occurs when this is not present any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662640" y="1447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90840" y="2286000"/>
            <a:ext cx="751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a limiting factor that c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 a population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80880" y="380988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on- for food, shelter, terri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isease/Parasi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rought/climat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uman disturb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rbon cycles through the biosphere in all of the following EXCEP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synthesis      respiration      transpiration   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76520" y="3400560"/>
            <a:ext cx="54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ANSPIRATION mo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ter in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68800" y="4724280"/>
            <a:ext cx="81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organism breaks down rock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new 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112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ch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st the 6 levels of organization that ecologists study from smallest to lar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32200" y="2438280"/>
            <a:ext cx="33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Organisms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581280" y="2514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opulations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296720" y="365760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munitie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030640" y="3584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cosystem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364120" y="472752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me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6960" y="472428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SPHE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28600"/>
            <a:ext cx="9144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 THE FOLLOWING IN ORDER OF INCREASING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722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7080" y="30481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02920" y="31240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4120" y="380988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3735000" y="3886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6326640" y="3809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685800" y="1219320"/>
            <a:ext cx="7543800" cy="1015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       ECOSYSTEM      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TY       BIOSPHERE          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greenhouse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21560" y="1371600"/>
            <a:ext cx="803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nergy from sunlight ent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he atmosphere and is then trapp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y atmospheric g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1560" y="3635280"/>
            <a:ext cx="73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captures and ea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d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nciple that states no two organisms can share the same niche at the same time in the same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38760" y="3581280"/>
            <a:ext cx="828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substance organisms ne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sustain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666880" y="5257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utr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917640" y="251460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ve exclusion princ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t these in ord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e Forest, Bare Rock, Bushes, Trees, Grass, 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2057400"/>
            <a:ext cx="748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re Rock, Lichen, Grass, Bushes, Trees, Mature fo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5120" y="4343400"/>
            <a:ext cx="89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 that cause 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8600" y="5257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olcanoes, Lava Flow, Retreating Glac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th organisms benefit from their c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66120" y="228600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95200" y="3755880"/>
            <a:ext cx="847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“organism’s job” that includes what it ea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eats it, where in the habitat it lives, how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s, and when &amp; how it reproduc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00400" y="5562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hemosynthesis is different from photosynth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280" y="1927080"/>
            <a:ext cx="90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Photosynthesis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emosynthesi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quires light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Happens without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Gets energy from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Gets energy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nlight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4495680"/>
            <a:ext cx="882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’s the difference between wea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lim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eather (daily)   Climate (yearl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hemosynthesis and photosynthesis are AL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59000" y="1952640"/>
            <a:ext cx="81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oth: Ways organisms get energy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    Use energy to make carbohydrates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    Happen in autotro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18680" y="4191120"/>
            <a:ext cx="8430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 stable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results after hundreds of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80880" y="5486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max Comm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group of individuals that belong 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me species that live together in an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21320" y="190512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91200" y="363528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heter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52480" y="4952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152280"/>
            <a:ext cx="87631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rs make up the first trophic level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chains are made by linking many food we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the energy is passed from one trophic level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ergy flows through the ecosystem in one direction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un to producers to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  Only about 10% is passed on to the next leve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Most is used for life processes or lost as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56080" y="1523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5160" y="297180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Food webs are made by linking food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59416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 an example of dividing resour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22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on’s Territory or birds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 different sections of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 car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114800" y="585144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ions  are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zebra"/>
          <p:cNvPicPr/>
          <p:nvPr/>
        </p:nvPicPr>
        <p:blipFill>
          <a:blip r:embed="rId1"/>
          <a:stretch/>
        </p:blipFill>
        <p:spPr>
          <a:xfrm>
            <a:off x="38088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fungus"/>
          <p:cNvPicPr/>
          <p:nvPr/>
        </p:nvPicPr>
        <p:blipFill>
          <a:blip r:embed="rId2"/>
          <a:stretch/>
        </p:blipFill>
        <p:spPr>
          <a:xfrm>
            <a:off x="6934320" y="43434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tree"/>
          <p:cNvPicPr/>
          <p:nvPr/>
        </p:nvPicPr>
        <p:blipFill>
          <a:blip r:embed="rId3"/>
          <a:stretch/>
        </p:blipFill>
        <p:spPr>
          <a:xfrm>
            <a:off x="251460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lion"/>
          <p:cNvPicPr/>
          <p:nvPr/>
        </p:nvPicPr>
        <p:blipFill>
          <a:blip r:embed="rId4"/>
          <a:srcRect l="0" t="21213" r="0" b="0"/>
          <a:stretch/>
        </p:blipFill>
        <p:spPr>
          <a:xfrm>
            <a:off x="4724280" y="38862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4 ways organisms in an ecosystem interact with each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74120" y="1828800"/>
            <a:ext cx="289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petition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ymbi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up of different populations that live together in an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899080" y="2133720"/>
            <a:ext cx="26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91920" y="3635280"/>
            <a:ext cx="817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the living things an eco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an organism might interac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tic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food chain4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205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01320" y="3352680"/>
            <a:ext cx="307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cc"/>
                </a:solidFill>
                <a:latin typeface="Arial"/>
              </a:rPr>
              <a:t>BIOLOGY; Miller and Levine; Prentice Hall;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04920" y="228600"/>
            <a:ext cx="8381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agram shows a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organisms above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roducer ?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nsumer?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trophic levels are show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488920" y="22860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725000" y="4572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190040" y="518148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ooplankton, fish, squid, sh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8381880" y="579132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152280"/>
            <a:ext cx="87631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 take carbon dioxide from the atomosphere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fix it in a form plants ca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n dioxide enters the atmosphere naturally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ion and volcanic activi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an activities such as mining, cutting and burn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ests, and burning fossil fuels releases carbon dioxi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o the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synthesis by plants removes carbon dioxide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03848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301760" y="1676520"/>
            <a:ext cx="75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is is TRUE about nitrogen NOT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49928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is a detritivore different from a decompos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1240" y="1876320"/>
            <a:ext cx="728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tritivores EAT dead organisms;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mposers break them dow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sorb their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41911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one of the biogeochemical cycles you learned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5638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, nitrogen, Water (hydrogen &amp; oxygen); 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 of organisms so similar that they can breed and produce fertile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897280" y="167652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91920" y="3635280"/>
            <a:ext cx="759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 organism that is capture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ten by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152280"/>
            <a:ext cx="87631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is depleting our ozone lay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causes acid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is the major cause of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rving electricity, using renewable energy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ike biofuels , solar, and wind), riding a bike, recycl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ste, making products more energy efficient are all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help the global warm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219320" y="4419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37720" y="1219320"/>
            <a:ext cx="761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Burning fossil fuels causes many environmental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oblems… but the ozone hole is caused by  CFC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527480" y="2971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87088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in which some bacteria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stored in the 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inorganic compounds 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hydrates in the absence of 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060640" y="2971800"/>
            <a:ext cx="353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hem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560" y="3886200"/>
            <a:ext cx="836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ies of steps in which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er energy through an eco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eating and being ea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523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152280"/>
            <a:ext cx="87631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 about the PHOSPHORUS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ate is released as rocks and sediments wear dow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ts absorb phosphate from the soil or from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orus is abundant in the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orus is important for building nucleic acids, ATP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making cell membr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90720" y="46483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,  phosphorus does NOT cycle through the ato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17640" y="1828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175440" y="61722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ganism benefits but the other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ither harmed nor hel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18200" y="2438280"/>
            <a:ext cx="33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1880" y="3657600"/>
            <a:ext cx="77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tific study of inter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ween organisms and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 and their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124080" y="5791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10080" y="30456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diagra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called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0" y="4060800"/>
            <a:ext cx="95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you think would happen to the sn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pulation in this community if all the pine bor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gs were killed by a vir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56272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food web"/>
          <p:cNvPicPr/>
          <p:nvPr/>
        </p:nvPicPr>
        <p:blipFill>
          <a:blip r:embed="rId1"/>
          <a:stretch/>
        </p:blipFill>
        <p:spPr>
          <a:xfrm>
            <a:off x="304920" y="0"/>
            <a:ext cx="4933800" cy="392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379440" y="5305320"/>
            <a:ext cx="80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 loss in pine borer bugs would decrease the popula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alamanders and golden crested kinglets (food for the sna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oss of pine borers would eventually cause a decrease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nake population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organisms that live in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US their non-living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126600" y="21337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91200" y="3635280"/>
            <a:ext cx="65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ut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62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y necessity for life such as water, food, light, or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049560" y="228600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39840" y="3581280"/>
            <a:ext cx="761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ationship in which organis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empt to use the same resour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the same time and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905120" y="5791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4114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you think will happen to the limpet population i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ussels are wiped out in an oil spi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t will increase         it will decrease            it will stay the same; m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on’t connect to limpets in this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52280" y="5911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Everything’s connected ! No mussels means crabs will eat more limpets; limpet population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food web6"/>
          <p:cNvPicPr/>
          <p:nvPr/>
        </p:nvPicPr>
        <p:blipFill>
          <a:blip r:embed="rId1"/>
          <a:stretch/>
        </p:blipFill>
        <p:spPr>
          <a:xfrm>
            <a:off x="380880" y="0"/>
            <a:ext cx="5991480" cy="4095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6402600" y="1066680"/>
            <a:ext cx="2399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ok at the f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152280"/>
            <a:ext cx="87631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part of the  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HYDROLOGIC OR WATER CYC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NOF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505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74608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36440" y="2057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61920" y="358128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O - part of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736440" y="4267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424040" y="495288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O - part of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660480" y="5791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such as bacteria or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break down organic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983600" y="182880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90120" y="3635280"/>
            <a:ext cx="72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ch step in a food chain or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209680" y="4952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ophic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something living things use nitrogen f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91440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king proteins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(amino part of amino acids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king nucleic acids (nitrogen 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art of ATP molecule (nitrogen b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8600" y="3200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is movement of matter in an ecosystem different than the movement of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28600" y="45720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nergy flows one direction through food chains; matter recycles continuously in 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oups of different species that live together in an area make up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678320" y="17524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n om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9480" y="56386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ost humans  are om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zebra"/>
          <p:cNvPicPr/>
          <p:nvPr/>
        </p:nvPicPr>
        <p:blipFill>
          <a:blip r:embed="rId1"/>
          <a:stretch/>
        </p:blipFill>
        <p:spPr>
          <a:xfrm>
            <a:off x="457200" y="4191120"/>
            <a:ext cx="1571760" cy="104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fungus"/>
          <p:cNvPicPr/>
          <p:nvPr/>
        </p:nvPicPr>
        <p:blipFill>
          <a:blip r:embed="rId2"/>
          <a:stretch/>
        </p:blipFill>
        <p:spPr>
          <a:xfrm>
            <a:off x="4952880" y="41911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gut eating"/>
          <p:cNvPicPr/>
          <p:nvPr/>
        </p:nvPicPr>
        <p:blipFill>
          <a:blip r:embed="rId4"/>
          <a:stretch/>
        </p:blipFill>
        <p:spPr>
          <a:xfrm>
            <a:off x="7086600" y="3962520"/>
            <a:ext cx="15289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ycle which includes an underground reservoir in the form of fossil fu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440080" y="182880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8680" y="368316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other name for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9051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ydrologic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in which green plants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rom sunlight  to prod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603080" y="2666880"/>
            <a:ext cx="33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37840" y="4419720"/>
            <a:ext cx="71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  living 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the group of organisms that all the cycles have in common which keeps matter cycling between living (organic) and nonliving (inorganic) parts of the eco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755000" y="320040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5228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s return nitrogen to the ground as ammoni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when they go to the bathroom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 in soil change ammonia into nitrates and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plants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get our nitrogen by brea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ogen returns to the atmosphere when we burn fossil 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990720" y="3733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Although the atmosphere is mostly nitrogen , it is in a form we can’t use. We get our nitrogen from the food we 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718240" y="1295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3965760" y="23623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836640" y="541008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; Bacteria return nitrogen to the atmosphere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rough DENITRIFICATION. Burning fossil fuel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returns carbon dioxide to the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co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90480" y="1295280"/>
            <a:ext cx="802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oming, sharing foo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haring care of offspring,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up defense against pred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up hunting; care for sick/inju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20160" y="4495680"/>
            <a:ext cx="77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the two ways AUTOtrophs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i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62120" y="5791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hemosynthesis &amp;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4 atoms make up over 95% of the body in most organis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12720" y="1981080"/>
            <a:ext cx="82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, Hydrogen, nitrogen ,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7800" y="3276720"/>
            <a:ext cx="874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of the biogeochemical cycles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rned about recycles hydroge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xy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5238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ydrologic or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such as mites, snai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worms, or crabs that eat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s or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592360" y="259092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trit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74040" y="3733920"/>
            <a:ext cx="851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 in which bacteria in soi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vert nitrogen gas into am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82880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fi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2 of the 3 ways bacteria help with the nitroge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67652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ome bacteria in soil &amp; on plant ro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vert nitrogen gas to ammonia (nitrogen fix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ther soil bacteria convert ammonia to nitrates &amp;  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nitrites that the plants ca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ther bacteria convert nitrates into nitrogen gas and 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return it to atmosphere (denitr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48920" y="4800600"/>
            <a:ext cx="800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the two sources of energy for ALL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8380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nlight and inorganic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 organism that eats ONLY 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4800" y="16002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66560" y="2666880"/>
            <a:ext cx="86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how a detritovore is differen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decompos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20" y="41911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oth get nutrients from dead organisms; detritivores eat dead stuff; decompo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sorb energy from dead stuff, but DON’T actually EAT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 one organism benefits by living on or inside another which is ha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50640" y="228600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58760" y="3657600"/>
            <a:ext cx="848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that states no 2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 occupy the same niche in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bitat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990720" y="5867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ve exclusion princ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52280"/>
            <a:ext cx="93726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level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individuals that belong t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es and live in the same are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ecosystems that have the same climat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communit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s so similar to one anothe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can breed and produce fertile offspring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s that live together in an area  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ion of the planet in which all life exists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ion of all  the organisms that live in 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rea together with their physical environment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4008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174720" y="12193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249600" y="228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5946840" y="41148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50680" y="48006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556320" y="59436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s that can make their own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energy from sunlight or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nds in inorgan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527480" y="2133720"/>
            <a:ext cx="54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utotrophs or 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15240" y="3352680"/>
            <a:ext cx="779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the non-living things such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, temperature, weath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type, or sunlight in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that impact an 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133720" y="594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iotic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other name for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981440" y="1454040"/>
            <a:ext cx="38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ydrologic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28600" y="3886200"/>
            <a:ext cx="70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ycle in which photosynthesi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llular respiration particip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can’t make its own food and get energy from consuming other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5920" y="2743200"/>
            <a:ext cx="60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eterotrophs or consu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91200" y="4038480"/>
            <a:ext cx="832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y relationship in which tw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e closely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3623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ymb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 in which one organism captures and feeds on an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745360" y="220968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228600" y="3886200"/>
            <a:ext cx="947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work of complex intera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king all the food chains in an eco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27672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ortion of  the Earth in which all life ex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93080" y="205740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3640" y="3581280"/>
            <a:ext cx="868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ke a food chain out of the follow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rbivore           carnivore           autotro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940320" y="57913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utotroph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 herbivore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→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rniv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only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363400" y="167652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33526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elements,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, and other form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 passed from part of the biosphere to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20040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geochemical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only 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981800" y="145404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690480" y="3635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liquid wa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to a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, scroll down, and complete the food web matching a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27880" y="3225960"/>
            <a:ext cx="86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though almost 80% of the atmosphere is made up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trogen gas, most living things don’t have the enzy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cessary to use nitrogen directly from the atmosp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l how we get the nitrogen we need to make 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DNA if we can’t get it from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1983240" y="563868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rom food we 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that is part of the 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which sunlight is used to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mospheric carbon in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for energy by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593800" y="2895480"/>
            <a:ext cx="33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88320" y="3635280"/>
            <a:ext cx="788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in which transpiratio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aporation, and condensation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81080" y="5791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ter/hydrologic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282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a producer in the food web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kind of heterotroph is a leopard s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9810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hytoplank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foodweb"/>
          <p:cNvPicPr/>
          <p:nvPr/>
        </p:nvPicPr>
        <p:blipFill>
          <a:blip r:embed="rId1"/>
          <a:stretch/>
        </p:blipFill>
        <p:spPr>
          <a:xfrm>
            <a:off x="380880" y="380880"/>
            <a:ext cx="6096240" cy="4219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684000" y="4343400"/>
            <a:ext cx="525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oolantarctica.com/Antarctica%20fact%20file/wildlife/whales/foodweb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2056680" y="61498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in which volcanic activity and burning fossil fuels plays a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364120" y="198108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31840" y="3630600"/>
            <a:ext cx="87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which is dependent on bacte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nitrogen fixation and 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type of organism is always on the first trophic level of every 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09480" y="1905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produ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6520" y="2895480"/>
            <a:ext cx="872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in which organisms use chem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stored IN THE CHEMICAL BOND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ORGANIC MOLECULES to make thei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in the absence of light i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80880" y="4800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hem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in which the break down of sugar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ing things returns carbon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mosphere as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ring the 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057400" y="2438280"/>
            <a:ext cx="44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31840" y="3630600"/>
            <a:ext cx="87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which is dependent on bacte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nitrogen fixation and 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282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an omnivore in the food web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kind of heterotroph is the snail in this food we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52280" y="5181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ats, voles, mice, &amp; mallards eat both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678280" y="0"/>
            <a:ext cx="346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http://sps.k12.ar.us/massengale/ecology_notes_bi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753920" y="63262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foodweb1"/>
          <p:cNvPicPr/>
          <p:nvPr/>
        </p:nvPicPr>
        <p:blipFill>
          <a:blip r:embed="rId1"/>
          <a:stretch/>
        </p:blipFill>
        <p:spPr>
          <a:xfrm>
            <a:off x="1523880" y="228600"/>
            <a:ext cx="3994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2 human activities by whi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nter the atmospher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s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uring the 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295280" y="22860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ellular respiration,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rning fossil 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54800" y="380988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arbo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eaves the atmospher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ing the carbon cy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80880" y="5257800"/>
            <a:ext cx="8382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gas dissolves in water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RGANISMS are responsible for removing nitrogen from and returning nitrogen to the atmosp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13640" y="1828800"/>
            <a:ext cx="43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CTERIA in so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251460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of taking nitrogen from the atmosphere and changing it into a form plants can use is called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of converting soil nitrogen back into atmospheric form is called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00400" y="40384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ITROGEN FI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09960" y="5486400"/>
            <a:ext cx="34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NIT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2 NON-human activities by which carbon c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ter the atmosphere or ocea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uring the carb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990720" y="220968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olcanic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mposition of dead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position as fossil fu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ro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60800" y="457200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one way bacteria help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eochemical cyc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280" y="58672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itrogen fixation &amp; denitrification (nitrogen cycle)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omposers break down dead organisms (carbon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something humans do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urn nitrogen to the soi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or the nitroge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094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dd fertilizers;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ste treatment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31840" y="3606840"/>
            <a:ext cx="75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e 4 biogeochemical cycles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ed ab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45720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, hydrologic (water);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; 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ergy moves through ecosyste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755360" y="914400"/>
            <a:ext cx="40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Food chains/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 decompo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6386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                            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ungi and SOME bacteria are 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zebra"/>
          <p:cNvPicPr/>
          <p:nvPr/>
        </p:nvPicPr>
        <p:blipFill>
          <a:blip r:embed="rId1"/>
          <a:stretch/>
        </p:blipFill>
        <p:spPr>
          <a:xfrm>
            <a:off x="68580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ungus"/>
          <p:cNvPicPr/>
          <p:nvPr/>
        </p:nvPicPr>
        <p:blipFill>
          <a:blip r:embed="rId2"/>
          <a:stretch/>
        </p:blipFill>
        <p:spPr>
          <a:xfrm>
            <a:off x="5105520" y="41148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nkbaby"/>
          <p:cNvPicPr/>
          <p:nvPr/>
        </p:nvPicPr>
        <p:blipFill>
          <a:blip r:embed="rId4"/>
          <a:stretch/>
        </p:blipFill>
        <p:spPr>
          <a:xfrm>
            <a:off x="7315200" y="3809880"/>
            <a:ext cx="1281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both plant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125880" y="160020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9400" y="3635280"/>
            <a:ext cx="839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water from pl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ves evaporates into the atm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a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zahm</cp:lastModifiedBy>
  <dcterms:modified xsi:type="dcterms:W3CDTF">2013-12-19T14:14:18Z</dcterms:modified>
  <cp:revision>73</cp:revision>
  <dc:subject/>
  <dc:title>asdfs</dc:title>
</cp:coreProperties>
</file>